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24E-786B-4A7D-8F65-0AE0D7F8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0A14-F5D9-4CE5-AFFE-1F8A4DD9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AC6-C6D0-4933-8FDF-9E9401E0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A44-7914-4707-B83B-BCA164D8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10D-C3A0-44AD-826B-C3438C78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B75-3873-4EFA-A573-858784A6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E4D-BBF4-434E-9ECA-FC939F0A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CA9-48A8-4D6E-BF17-8F442F5F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980-9CAD-4F47-8B25-E8256E91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90F-231B-491A-AD7D-D46DF2F3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42F-F986-4C73-8D63-B3CC34A5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EE4-ECB0-4EF2-8579-F8991AAC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E923-DB77-4FC1-99C1-FCF4EFE3B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Linear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r. Clar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linear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quation has at least one variable, usually x and or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no ex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ay be fractions or decimals, but the variables can not be in the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Linear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(1/2)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3y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x – 4y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 about these equations that lets you know that they are linear? Look at the next page to answer this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s That Are Not 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5  No exponents on the variables in linear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4/x   No variables in the denominator for linear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 = 5   If you solve for x or y one of the variables will end up in the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3:33:49Z</dcterms:created>
  <dc:creator>Preferred Customer</dc:creator>
  <dc:description/>
  <dc:language>en-US</dc:language>
  <cp:lastModifiedBy>Preferred Customer</cp:lastModifiedBy>
  <dcterms:modified xsi:type="dcterms:W3CDTF">2008-06-07T02:20:53Z</dcterms:modified>
  <cp:revision>11</cp:revision>
  <dc:subject/>
  <dc:title>Introduction to Linear Equations</dc:title>
</cp:coreProperties>
</file>